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634-0051-407E-A51A-7CDCD708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364-2C3D-43E8-8262-704BD054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B73-A041-4976-BF0E-8A5E0BA8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F87-232A-4C46-AC84-594C8710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9B233-D6E3-4B0F-8331-F1656AB2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10C53-63B1-411B-9581-A2318888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6946B-B188-4AD4-9B57-1F59E3F6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59440-23B9-4C7A-9588-35A83769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E956-2378-4C52-845F-61FB1BDD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6E016-F3A5-461A-805C-6556AF21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FF86D-516E-4E62-A280-4CEF4B6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504-4B13-4CC2-8E09-D2C1D91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EC9FA-6B52-49EE-BD89-C32C5FB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8B1E4-3F1B-4854-B4F2-D51727E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9234F-7286-4C85-9593-C57C26E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0C55-D954-4846-9942-C26E90C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BF6D0-E52D-44F2-A23E-E4F9EEAF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17F-3042-4717-BC18-87046203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205-0BD0-416D-87AB-67E378AC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316-8196-44B2-88CF-98570F9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A20-301F-4FFA-9CCB-8D600F3E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5E2-67F4-4197-A53D-FB4F966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3AD-A0A2-47FE-AE7C-217BDCB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C30-4701-48F6-9A7D-D9C6F62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A9D-0CF6-4D46-8373-97F1F0E63C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19C-04B2-4AA4-8779-3B9127F31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281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Polscy pisarze XX wieku</a:t>
            </a:r>
            <a:br>
              <a:rPr sz="4400"/>
            </a:b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Opracowała:Maria Kubic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ria Dąbrows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utorka Nocy i Dni powieści sagi rodzinn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 losach Barbary i Bogumiła Niechcic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pisanych w tło polityczno-społeczne Polski w okresie zaboró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Maria Dąbrowska"/>
          <p:cNvPicPr/>
          <p:nvPr/>
        </p:nvPicPr>
        <p:blipFill>
          <a:blip r:embed="rId1"/>
          <a:stretch/>
        </p:blipFill>
        <p:spPr>
          <a:xfrm>
            <a:off x="5715000" y="2585880"/>
            <a:ext cx="1905120" cy="252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Ryszard Kapuścińsk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ennikarz i podróżnik aut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esarza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erium i Wojny futbolowe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Ryszard Kapuściński"/>
          <p:cNvPicPr/>
          <p:nvPr/>
        </p:nvPicPr>
        <p:blipFill>
          <a:blip r:embed="rId1"/>
          <a:stretch/>
        </p:blipFill>
        <p:spPr>
          <a:xfrm>
            <a:off x="5364000" y="2276640"/>
            <a:ext cx="2221200" cy="28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Sławomir Mroż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ławomir Mrożek jest dramaturgie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utorem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Tanga, a także opowiadań: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esele w Atomicach oraz Sło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Sławomir Mrożek"/>
          <p:cNvPicPr/>
          <p:nvPr/>
        </p:nvPicPr>
        <p:blipFill>
          <a:blip r:embed="rId1"/>
          <a:stretch/>
        </p:blipFill>
        <p:spPr>
          <a:xfrm>
            <a:off x="5103720" y="2276640"/>
            <a:ext cx="2606760" cy="266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Gustaw Herling- Grudzińsk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utor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Innego świata,Opowiadań włoskic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Dzienników pisanych noc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Gustaw Herling-Grudziński"/>
          <p:cNvPicPr/>
          <p:nvPr/>
        </p:nvPicPr>
        <p:blipFill>
          <a:blip r:embed="rId1"/>
          <a:stretch/>
        </p:blipFill>
        <p:spPr>
          <a:xfrm>
            <a:off x="5232240" y="1197000"/>
            <a:ext cx="3349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Tadeusz Borowsk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r prozy poświęconej wojnie i okupacj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tuły utwor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mienny świat i Pożegnanie z Mari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Tadeusz Borowski"/>
          <p:cNvPicPr/>
          <p:nvPr/>
        </p:nvPicPr>
        <p:blipFill>
          <a:blip r:embed="rId1"/>
          <a:stretch/>
        </p:blipFill>
        <p:spPr>
          <a:xfrm rot="24000">
            <a:off x="4786200" y="1557360"/>
            <a:ext cx="395928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e3e3ff"/>
                </a:solidFill>
                <a:latin typeface="Arial"/>
              </a:rPr>
              <a:t>Tadeusz Konwick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utor powieści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Sennik współczesny ,Bohi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owy świat i okol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Pisarz jest również reżyserem filmowy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Wyreżyserował Lawę na podstawie Dziadów Adama Mickiewic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Tadeusz Konwicki"/>
          <p:cNvPicPr/>
          <p:nvPr/>
        </p:nvPicPr>
        <p:blipFill>
          <a:blip r:embed="rId1"/>
          <a:stretch/>
        </p:blipFill>
        <p:spPr>
          <a:xfrm>
            <a:off x="5219640" y="227664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7200" y="692280"/>
            <a:ext cx="38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Zofia Nałkowska</a:t>
            </a:r>
            <a:br>
              <a:rPr sz="1800"/>
            </a:b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autorka Granicy</a:t>
            </a:r>
            <a:br>
              <a:rPr sz="1800"/>
            </a:br>
            <a:r>
              <a:rPr b="0" lang="pl-PL" sz="1800" spc="-1" strike="noStrike">
                <a:solidFill>
                  <a:srgbClr val="e3e3ff"/>
                </a:solidFill>
                <a:latin typeface="Arial"/>
              </a:rPr>
              <a:t>powieści społeczno-psychologiczn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Zofia Nałkowska"/>
          <p:cNvPicPr/>
          <p:nvPr/>
        </p:nvPicPr>
        <p:blipFill>
          <a:blip r:embed="rId1"/>
          <a:stretch/>
        </p:blipFill>
        <p:spPr>
          <a:xfrm>
            <a:off x="2124000" y="256536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itold Gombrowicz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utor Ferdydurke powieści o dojrzewa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Witold Gombrowicz"/>
          <p:cNvPicPr/>
          <p:nvPr/>
        </p:nvPicPr>
        <p:blipFill>
          <a:blip r:embed="rId1"/>
          <a:stretch/>
        </p:blipFill>
        <p:spPr>
          <a:xfrm>
            <a:off x="3059280" y="3068640"/>
            <a:ext cx="2520720" cy="293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rosław Iwaszkiewic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r Sławy i chwały powieści społeczno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yczne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Jarosław Iwaszkiewicz"/>
          <p:cNvPicPr/>
          <p:nvPr/>
        </p:nvPicPr>
        <p:blipFill>
          <a:blip r:embed="rId1"/>
          <a:stretch/>
        </p:blipFill>
        <p:spPr>
          <a:xfrm>
            <a:off x="4859280" y="3038400"/>
            <a:ext cx="2408400" cy="269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1:05:22Z</dcterms:created>
  <dc:creator>Pracownia_101</dc:creator>
  <dc:description/>
  <dc:language>en-US</dc:language>
  <cp:lastModifiedBy>Pracownia_101</cp:lastModifiedBy>
  <dcterms:modified xsi:type="dcterms:W3CDTF">2002-10-11T09:43:41Z</dcterms:modified>
  <cp:revision>6</cp:revision>
  <dc:subject/>
  <dc:title> </dc:title>
</cp:coreProperties>
</file>